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B48-1310-4072-8D20-9D7BB0DC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6060-3C48-4158-A244-586BF91E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A16-CA87-4FE7-AE47-C14E72DB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969-3191-4A6A-8E68-4C0487C9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71A-E342-4B21-9542-FD41C582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B23-5A73-4C55-AA37-0093F051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E8F-8E12-47E9-BACD-07ACF011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CB5-9E5B-41C1-9D96-701FD56F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0" y="32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01A-260E-4AFB-8C82-458209E4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7F4-3EED-4C61-9A6F-B150BB1D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43FF-6F9F-4236-ABBB-29C64F7B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67F-7C75-47A9-8F53-19326A4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D857-F2C5-49BF-B872-D4054556C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Program%20Files/EXFO/Toolbox/ToolBox6.exe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38280"/>
            <a:ext cx="723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Polarisation Mode 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1" lang="pl-PL" sz="3200" spc="-1" strike="noStrike">
                <a:solidFill>
                  <a:srgbClr val="ff6600"/>
                </a:solidFill>
                <a:latin typeface="Arial"/>
              </a:rPr>
              <a:t>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3905280"/>
            <a:ext cx="723888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Tahoma"/>
              </a:rPr>
              <a:t>Piotr Tur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oznan Supercomputing and Networking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piotrek</a:t>
            </a: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@</a:t>
            </a: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man.poznan.p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Ki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99"/>
                </a:solidFill>
                <a:latin typeface="Tahoma"/>
              </a:rPr>
              <a:t>9-10 Octo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A97-1D76-4263-A32F-D8CCCB0F97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335240"/>
            <a:ext cx="6248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quipment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TB-400 mainframe equipped with GP-4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TB-5500B PMD analy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LS-5800-xx series CD/PMD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olbox office software 6.21 or higher installed on FTB-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3968640"/>
            <a:ext cx="3429000" cy="2584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42040" y="4273560"/>
            <a:ext cx="180792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4D9-0B49-46FA-9B70-A9207171B9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219320"/>
            <a:ext cx="8305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FLS-5800 series source should be powered-up and allowed to complete its self test routine (less than 30 seconds). The user then has to select wavelength range and then activate the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 band (nominally 1510 to 1560nm) and C+L band (nominally 1510 to 1610n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845820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spect and clean the connectors on the appropriate patch-cord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nnect to the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wer-on the FTB-400 and activate the FTB-5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nnect the patch-cord to the input on the FTB-5800 analyser mo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AFA-733A-4AA5-A4E8-063EDD8450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134136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73911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FLS-5800 series source should be powered-up and allowed to complete its self test rou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user then has to select wavelength range and then activate the source. There are two 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 band (nominally 1510 to 1560nm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+L band (nominally 1510 to 1610n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429000"/>
            <a:ext cx="4419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wer-on the FTB-400 and activate the FTB-5500B PMD analyser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spect and clean the connectors on the appropriate patch-cord and connect to the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687760"/>
            <a:ext cx="4419360" cy="333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CAE-6933-4B4E-B523-E48B37AAA6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71600" y="5038560"/>
            <a:ext cx="3848040" cy="128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1447920"/>
            <a:ext cx="74678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heck the input power level on the analyzer software. This is a basic Go/No Go indication to indicate if useable power is present before starting. This will save you time in your testing as it will indicate whe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your source is truly activat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f you are connected to the correct f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a common problem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d can potentially tell you to use longer averaging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if the source signal is 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44A-2953-4B4B-8FC4-A6CB09CBE6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5029200" cy="3790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8600" y="1380960"/>
            <a:ext cx="3809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iber Parameter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ter the length of the link in km, select fibre type and select the wavelength range to match your FLS-5800 source sett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usual settings are either C+L band or O, C &amp; L. Check the display of the FLS-5800 series source to verif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4562640"/>
            <a:ext cx="876240" cy="542880"/>
          </a:xfrm>
          <a:custGeom>
            <a:avLst/>
            <a:gdLst/>
            <a:ahLst/>
            <a:rect l="l" t="t" r="r" b="b"/>
            <a:pathLst>
              <a:path w="552" h="342">
                <a:moveTo>
                  <a:pt x="0" y="0"/>
                </a:moveTo>
                <a:lnTo>
                  <a:pt x="552" y="34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14760" y="3038400"/>
            <a:ext cx="1457280" cy="1123920"/>
          </a:xfrm>
          <a:custGeom>
            <a:avLst/>
            <a:gdLst/>
            <a:ahLst/>
            <a:rect l="l" t="t" r="r" b="b"/>
            <a:pathLst>
              <a:path w="918" h="708">
                <a:moveTo>
                  <a:pt x="0" y="0"/>
                </a:moveTo>
                <a:lnTo>
                  <a:pt x="918" y="708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68D-6B07-42E2-A237-48853F0EEB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1295280"/>
            <a:ext cx="38102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 begin a measurement, press the </a:t>
            </a: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REEN</a:t>
            </a:r>
            <a:r>
              <a:rPr b="0" lang="pl-PL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art button. The software automatically switches to the Results Graph screen. Note - This screen shot shows the typical data AFTER acquisition has finished and the data analy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038480" y="2282760"/>
            <a:ext cx="4953240" cy="373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431-6126-4862-8EF6-91B8B5E6A5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181160"/>
            <a:ext cx="9144000" cy="5676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440" y="259920"/>
            <a:ext cx="6172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onnecting and taking a measurement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038480" y="2282760"/>
            <a:ext cx="4953240" cy="373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1219320"/>
            <a:ext cx="37339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ep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output of the measurement gives the resultant interferogram, the PMD Delay in [ps] and the PMD Coefficient in [ps/Sqrt_km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ditional information included in the output includes 2nd Order PMD, Length of sample and Wavelength range over which measurement has been per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A38-4236-41C1-9F40-564481E588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2286000" cy="8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B65-CD0F-4E04-A770-4E8331CA01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12:33Z</dcterms:created>
  <dc:creator>Piotrek</dc:creator>
  <dc:description/>
  <dc:language>en-US</dc:language>
  <cp:lastModifiedBy>x</cp:lastModifiedBy>
  <dcterms:modified xsi:type="dcterms:W3CDTF">2007-06-07T11:48:01Z</dcterms:modified>
  <cp:revision>25</cp:revision>
  <dc:subject/>
  <dc:title>Prezentacja programu PowerPoint</dc:title>
</cp:coreProperties>
</file>