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C22-C9DB-44F8-87E1-A16361EA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272-7BF5-4A04-91BA-AC43D240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D09-6D78-403C-937C-320EC162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97A-3F4F-4C63-B878-61A7250A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B4C-EA5E-4851-8CAF-30E04A31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51B-BC57-4F8E-97F1-FA54BE33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E5D-C93C-4F48-A7C4-02169F54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AE5-7572-4C43-BF55-27830F51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36E-4A4A-431B-BB5F-3B7503DC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2DB-33DF-47F5-80E6-21A4998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B80-FB2E-4E63-BF22-CE9A168C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24D-C688-4B15-A887-DD79EB95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4807-01F6-4F3B-BEE4-44D0AC0A8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3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3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3.wmf"/><Relationship Id="rId3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1295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Tahoma"/>
              </a:rPr>
              <a:t>Optical Budg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809880"/>
            <a:ext cx="762012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D6E-165E-48FA-A54A-C6A94D0435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57360" y="1676520"/>
            <a:ext cx="5834160" cy="18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371600" y="38098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cable under test will connect between the “launch patch” and the “receive patch”, in order to eliminate any non-cable related attenu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A76-AB57-4E91-8716-3CA52A8245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3348000"/>
            <a:ext cx="5410080" cy="1681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00200" y="524196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able attenuation = (-3dbm) - (-10dbm) = 7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57240" y="1143000"/>
            <a:ext cx="5305680" cy="209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30B-678B-4D89-9373-4F7DE20F67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network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75248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thout amplification, the maximum allowable loss in an all-optical network is given by the difference between the launch power and the receiver sensi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llowable loss (dB) = Tx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_power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Rx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_sensi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7680" y="49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800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80988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course, this value is true only if we connect transponders directly to the transmission fi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984-F161-439D-B29B-E7F936C572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network atten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7680" y="49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48006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5238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t is very useful to be able to specify in dB an absolute power wi watts or in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42244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do this the power P2 in the dB formula is fixed at some agreed reference value, so the dB value always relates to this reference power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371808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lows for easy calculation of power at any point in 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03880"/>
            <a:ext cx="7010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here the reference power is 1mW the power in an optical signal with a power level P is given in dB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wer [dB] = 10 Log [P/1nW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419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E7A-FBB0-4E79-831E-4C7537AEE1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Bm calculation (Trans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765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transmitter laser has a measure output power of 2.3mW. What is the laser diode output power expressed in d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124080"/>
            <a:ext cx="243828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214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nsmitter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3526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32004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3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343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Power /1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876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2.3mW /1 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4100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er [dB] = 10 Log (2.3) = +3.61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CC7-BC4A-49AA-BFE4-35365D9F4C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9840" y="259920"/>
            <a:ext cx="610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Bm calculation (Trans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523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B and dBm can be combined in the sam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652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 shown a fiber span (inc. splices etc.) has a total attenuation of 1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4987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the trasmitter output power is +2 dBm what is the reciver input power in d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3581280"/>
            <a:ext cx="14479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6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ransmi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80988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81280"/>
            <a:ext cx="24937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672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ber span: att 13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3809880"/>
            <a:ext cx="7617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3581280"/>
            <a:ext cx="1676520" cy="5335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3657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c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+2 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? dB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56160"/>
            <a:ext cx="8381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Transmitter output power – Total fiber span a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+2 dBm – 13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civer input [dB] = -11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152-8A5D-4F91-B496-83A61FF95B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t-to-Point link attenua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3835440"/>
            <a:ext cx="1413000" cy="1905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21240"/>
            <a:ext cx="86868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1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Components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ibe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 9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/12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km a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5dB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3 pcs. at 0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plice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pcs. at 0.1dB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0.15dB)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0.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6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2190600"/>
                <a:tab algn="l" pos="5715000"/>
                <a:tab algn="l" pos="7429680"/>
                <a:tab algn="r" pos="847728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otal attenuation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.6 dB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7960" y="2128680"/>
          <a:ext cx="406440" cy="76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60" y="2128680"/>
                    <a:ext cx="406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391520" y="2286000"/>
          <a:ext cx="406440" cy="40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9152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592360" y="2400480"/>
          <a:ext cx="227160" cy="226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2360" y="2400480"/>
                    <a:ext cx="227160" cy="22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81080" y="2133720"/>
          <a:ext cx="55116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133720"/>
                    <a:ext cx="551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190000" y="2128680"/>
          <a:ext cx="406440" cy="766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190000" y="2128680"/>
                    <a:ext cx="4064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971800" y="2133720"/>
          <a:ext cx="550800" cy="406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9718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078600" y="2133720"/>
          <a:ext cx="550800" cy="406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0786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033880" y="2286000"/>
          <a:ext cx="406440" cy="406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3388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143000" y="2286000"/>
          <a:ext cx="406440" cy="406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43000" y="2286000"/>
                    <a:ext cx="406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914400" y="2997360"/>
            <a:ext cx="1295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990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p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38520" y="2921040"/>
            <a:ext cx="1371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95480"/>
            <a:ext cx="1295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752480"/>
            <a:ext cx="990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1752480"/>
            <a:ext cx="9907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1752480"/>
            <a:ext cx="6858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6136400">
            <a:off x="433800" y="2309040"/>
            <a:ext cx="58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177800">
            <a:off x="8090640" y="2270520"/>
            <a:ext cx="65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23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2401920"/>
          <a:ext cx="226800" cy="227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520" y="2401920"/>
                    <a:ext cx="22680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659040" y="2390760"/>
          <a:ext cx="227160" cy="2271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65904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114800" y="2133720"/>
          <a:ext cx="550800" cy="40644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800" y="2133720"/>
                    <a:ext cx="5508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724280" y="2390760"/>
          <a:ext cx="227160" cy="2271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72428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562720" y="2390760"/>
          <a:ext cx="226800" cy="2271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562720" y="2390760"/>
                    <a:ext cx="22680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859440" y="2390760"/>
          <a:ext cx="227160" cy="22716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6859440" y="2390760"/>
                    <a:ext cx="22716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8080" y="25146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752480"/>
            <a:ext cx="6858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7D3-78E8-4151-B00B-105455F7FA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7760" y="259920"/>
            <a:ext cx="60958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t-to-Point link attenuat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219320"/>
            <a:ext cx="79246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table contains some typical numbers, which can be used to approximate optical link budget calculations. If at all possible, real numbers from the network in question should be used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3429000"/>
            <a:ext cx="4191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71600" y="2438280"/>
          <a:ext cx="5105520" cy="3413160"/>
        </p:xfrm>
        <a:graphic>
          <a:graphicData uri="http://schemas.openxmlformats.org/drawingml/2006/table">
            <a:tbl>
              <a:tblPr/>
              <a:tblGrid>
                <a:gridCol w="4035600"/>
                <a:gridCol w="1069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for connector lo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cable attenuation at 131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cable attenuation at 1550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splice atten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distance between spl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safety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) CD penal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767-7A07-47D4-A90E-2447DEA06F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Budget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17524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inimum Transmit Power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Minimum Receive Sensitivity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Available Pow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200400"/>
            <a:ext cx="76201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Km of cable    X _________ dB/km     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Connectors      X _________ dB/Con.  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Splices             X _________ dB/splice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ink Margin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Repair Splices X _________ dB/Splice       = 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afety Margin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xcess Power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__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792-8710-41C8-924E-C96B95E32E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ptical Budget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66680" y="1662120"/>
            <a:ext cx="88106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08C-92BD-43D4-9ACD-BB6D17408B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704960"/>
            <a:ext cx="86104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hen planning a new network or expanding an exis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ne with WDM equipment, one of the first things to conside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etween the equipment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istance is related to fiber-optic parameters l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tten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ecise attenuation calculations should take place at the planning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actual fiber optic cable attenuation should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 calculated based on the cable vendor specification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network segments di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1A2-EF6A-4088-8395-F3543244C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812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F72-3B22-4579-B368-8DA7797D0F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 (dB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for power gain o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bels-milliwatt (dBm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for output power and receive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loss of power in dB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matic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preading of the light pulse in ps/nm*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Error Rate (B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ypical acceptable rate is 10</a:t>
            </a:r>
            <a:r>
              <a:rPr b="0" lang="en-US" sz="2000" spc="-1" strike="noStrike" baseline="44000">
                <a:solidFill>
                  <a:srgbClr val="000000"/>
                </a:solidFill>
                <a:latin typeface="Arial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Signal to Noise Ratio (OSN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ratio of optical signal power to noise power for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Grid Waveleng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tandard for the lasers in DWDM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chnical design elements: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D02-0543-4B62-8BA6-DA436BA4CC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echnical design elements: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ecibe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171440"/>
            <a:ext cx="86108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decibel (db) represents the logarithmic 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f two power levels P1 and P2 usually measured in wat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B=10log(P1/P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ibels also can measure power relative to certain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example, when P2=0.001 Wat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he value units will be called “dBm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hich means power related to 1 milliwat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dBm=10log(P1/1m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2D9-B02F-45AE-9EA1-9242265ABD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-173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 = Output power – Input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budget is affec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atte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 panels / 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components (filters, amplifier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ds in th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tion (dirt, oi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6680" y="2133720"/>
            <a:ext cx="739152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B88-6E59-44C9-943C-4F666A7319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y Ran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loss (atten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ersion Pen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Nonlinearities Pena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/ Fiber Aging Penal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s the sig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is                                            to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200" y="1981080"/>
            <a:ext cx="213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913"/>
                </a:solidFill>
                <a:latin typeface="Arial"/>
              </a:rPr>
              <a:t>High to 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238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36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57400" y="4724280"/>
            <a:ext cx="1752480" cy="1427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770440" y="4745160"/>
            <a:ext cx="1676520" cy="134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727-1FE6-4702-8ECE-815A40776E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181080"/>
            <a:ext cx="6172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Design Elemen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371600"/>
            <a:ext cx="7467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tenu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lse amplitude reduction limits “how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romatic Disper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eading of the pulse from different colored light traveling at different speeds within th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arization Mode Disper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eading of the light pulse from fast and slow axes having different group velo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468180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71600" y="3581280"/>
            <a:ext cx="608652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295280" y="5334120"/>
            <a:ext cx="631512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C87-3325-48FE-A5E5-EDA6FB433C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762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ber optic cables perform differently at various wavelength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 it’s cardinal to set the power meter at the correct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 well as to match it with the light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r example, WDM technology uses the 1550 nm reg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o it’s more practical to test the cable with the same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1550 nm, if we plan to use it for WDM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954-917E-4B60-AD44-6AE57065BF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ber attenuation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1284120"/>
            <a:ext cx="5305320" cy="2097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37339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first step is measuring the launched power from the transmitting device. Using “launch patch” instead of a direct connection to the transmitter eliminates the influence of the transmitter - cable connection attenuatio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6BD-F708-4259-94EC-5B2723B40C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2:09Z</dcterms:modified>
  <cp:revision>24</cp:revision>
  <dc:subject/>
  <dc:title>Prezentacja programu PowerPoint</dc:title>
</cp:coreProperties>
</file>