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ED2-09B6-49C0-A01B-61BADADF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A5D-A98E-4BCA-AD40-9215EDB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7178-85A7-4A64-9029-CB4B392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180-7ED5-49EF-AE53-78123AFB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CCF-7241-4EBA-90FC-27733D5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E1C-1135-4B1F-987E-DE2939AD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833-074A-4F87-BB5C-D7A4EBBD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756-8479-4DD6-874E-8667E22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23F-4F06-4095-9CED-C9A64F1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669-7645-4073-965B-AEB3ABC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23B-DB5E-41E9-824A-AA7616FC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0B9-7EB5-42D1-8872-3D114089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A6E0-BA78-42F6-97C5-FDA8DD94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1484280"/>
            <a:ext cx="6913800" cy="12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Chromatic</a:t>
            </a: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 D</a:t>
            </a: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isp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1371600"/>
            <a:ext cx="68864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he cause of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1544760"/>
            <a:ext cx="70866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spersion b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76400" y="1704960"/>
            <a:ext cx="70009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Fibers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fiber%20comparisions" descr=""/>
          <p:cNvPicPr/>
          <p:nvPr/>
        </p:nvPicPr>
        <p:blipFill>
          <a:blip r:embed="rId2"/>
          <a:stretch/>
        </p:blipFill>
        <p:spPr>
          <a:xfrm>
            <a:off x="1219320" y="1741320"/>
            <a:ext cx="716256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259920"/>
            <a:ext cx="6027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Fibers: Attenuation &amp;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8600" y="1630440"/>
            <a:ext cx="86104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hy is measuring Dispersion so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6240" y="1638360"/>
            <a:ext cx="70484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038320" y="1362240"/>
            <a:ext cx="695340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1611360"/>
            <a:ext cx="784872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44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D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98108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CF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DF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ag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Gratings techniqu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ecreasing impulse spectral widt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xternal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ulse shaping of current modul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lit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miss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280" y="1328760"/>
            <a:ext cx="8839440" cy="5376960"/>
            <a:chOff x="152280" y="1328760"/>
            <a:chExt cx="8839440" cy="5376960"/>
          </a:xfrm>
        </p:grpSpPr>
        <p:sp>
          <p:nvSpPr>
            <p:cNvPr id="129" name=""/>
            <p:cNvSpPr/>
            <p:nvPr/>
          </p:nvSpPr>
          <p:spPr>
            <a:xfrm>
              <a:off x="2050920" y="1341360"/>
              <a:ext cx="69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152280" y="1793880"/>
              <a:ext cx="8839440" cy="49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467480" y="1506600"/>
              <a:ext cx="1143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80" y="1328760"/>
              <a:ext cx="88394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hat is disper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66680" y="1838160"/>
            <a:ext cx="693432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362320"/>
            <a:ext cx="83818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57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D compen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660680"/>
            <a:ext cx="2286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pl-PL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2498760"/>
            <a:ext cx="5923080" cy="3541680"/>
          </a:xfrm>
          <a:custGeom>
            <a:avLst/>
            <a:gdLst/>
            <a:ahLst/>
            <a:rect l="l" t="t" r="r" b="b"/>
            <a:pathLst>
              <a:path w="7462" h="4464">
                <a:moveTo>
                  <a:pt x="0" y="0"/>
                </a:moveTo>
                <a:lnTo>
                  <a:pt x="0" y="4464"/>
                </a:lnTo>
                <a:lnTo>
                  <a:pt x="7462" y="446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3080" y="2444760"/>
            <a:ext cx="70200" cy="69840"/>
          </a:xfrm>
          <a:custGeom>
            <a:avLst/>
            <a:gdLst/>
            <a:ahLst/>
            <a:rect l="l" t="t" r="r" b="b"/>
            <a:pathLst>
              <a:path w="89" h="89">
                <a:moveTo>
                  <a:pt x="44" y="0"/>
                </a:moveTo>
                <a:lnTo>
                  <a:pt x="89" y="89"/>
                </a:lnTo>
                <a:lnTo>
                  <a:pt x="67" y="81"/>
                </a:lnTo>
                <a:lnTo>
                  <a:pt x="44" y="79"/>
                </a:lnTo>
                <a:lnTo>
                  <a:pt x="22" y="81"/>
                </a:lnTo>
                <a:lnTo>
                  <a:pt x="0" y="89"/>
                </a:lnTo>
                <a:lnTo>
                  <a:pt x="44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13800" y="6005520"/>
            <a:ext cx="69840" cy="69840"/>
          </a:xfrm>
          <a:custGeom>
            <a:avLst/>
            <a:gdLst/>
            <a:ahLst/>
            <a:rect l="l" t="t" r="r" b="b"/>
            <a:pathLst>
              <a:path w="88" h="89">
                <a:moveTo>
                  <a:pt x="88" y="45"/>
                </a:moveTo>
                <a:lnTo>
                  <a:pt x="0" y="89"/>
                </a:lnTo>
                <a:lnTo>
                  <a:pt x="8" y="68"/>
                </a:lnTo>
                <a:lnTo>
                  <a:pt x="10" y="45"/>
                </a:lnTo>
                <a:lnTo>
                  <a:pt x="8" y="22"/>
                </a:lnTo>
                <a:lnTo>
                  <a:pt x="0" y="0"/>
                </a:lnTo>
                <a:lnTo>
                  <a:pt x="88" y="4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542772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16200" y="358128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16200" y="419724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16200" y="4811760"/>
            <a:ext cx="152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992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92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380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10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468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7196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24640" y="5948280"/>
            <a:ext cx="180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10480" y="5948280"/>
            <a:ext cx="1440" cy="15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160" y="2536920"/>
            <a:ext cx="148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ispersion [ps/n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17240" y="6116760"/>
            <a:ext cx="48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 [km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8556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1100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3644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63680" y="61167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920" y="47322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920" y="41194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920" y="350352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920" y="5348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6200" y="2968560"/>
            <a:ext cx="1522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160" y="2889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908000" y="2968200"/>
            <a:ext cx="183852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46520" y="296856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6520" y="313704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46520" y="330660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6520" y="34750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6520" y="364500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46520" y="38131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46520" y="3983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46520" y="41511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43210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6520" y="4489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46520" y="465948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46520" y="482904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6520" y="499752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6520" y="5167440"/>
            <a:ext cx="144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46520" y="533556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46520" y="550548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6520" y="5673600"/>
            <a:ext cx="144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46520" y="5843520"/>
            <a:ext cx="144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6012000"/>
            <a:ext cx="144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46520" y="2968200"/>
            <a:ext cx="18381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468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468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468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468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8468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468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468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468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468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468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468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8468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8468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468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8468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468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468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468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468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584680" y="2968200"/>
            <a:ext cx="1839960" cy="307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24640" y="296856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24640" y="313704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24640" y="330660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24640" y="34750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24640" y="364500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24640" y="38131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24640" y="3983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24640" y="41511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24640" y="43210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24640" y="4489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24640" y="465948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24640" y="482904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24640" y="499752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24640" y="5167440"/>
            <a:ext cx="1800" cy="10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24640" y="533556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24640" y="550548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24640" y="5673600"/>
            <a:ext cx="1800" cy="1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24640" y="5843520"/>
            <a:ext cx="18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4640" y="6012000"/>
            <a:ext cx="180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4073400"/>
            <a:ext cx="59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ZD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80000" y="38559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1295280"/>
            <a:ext cx="8915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6320" y="1569960"/>
            <a:ext cx="8991360" cy="4983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315200" y="1284120"/>
            <a:ext cx="1752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5840" y="1219320"/>
            <a:ext cx="8553240" cy="5562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14400" y="1600200"/>
            <a:ext cx="7543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15382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anaging Chromatic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1625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971800" y="36504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persion Compens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413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iber Dispersion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95320" y="1447920"/>
            <a:ext cx="8248680" cy="534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440160" y="1504800"/>
            <a:ext cx="120816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490760"/>
            <a:ext cx="3778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42000" y="1638360"/>
            <a:ext cx="2046240" cy="9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89560" y="1982880"/>
            <a:ext cx="52524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1490760"/>
            <a:ext cx="2311200" cy="9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1704960"/>
            <a:ext cx="3097440" cy="9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ispersion compensation for DW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95280" y="1819440"/>
            <a:ext cx="6915240" cy="32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Effect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70866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619280"/>
            <a:ext cx="7077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60280"/>
            <a:ext cx="558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Differential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1792440"/>
            <a:ext cx="71629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creased Bit Erro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03360"/>
            <a:ext cx="701028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458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558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ypes of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romatic Dispersio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8487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2:54:50Z</dcterms:created>
  <dc:creator>DN</dc:creator>
  <dc:description/>
  <dc:language>en-US</dc:language>
  <cp:lastModifiedBy>x</cp:lastModifiedBy>
  <dcterms:modified xsi:type="dcterms:W3CDTF">2007-06-07T11:43:31Z</dcterms:modified>
  <cp:revision>25</cp:revision>
  <dc:subject/>
  <dc:title>General information Project description</dc:title>
</cp:coreProperties>
</file>